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D72-C136-4A03-B36E-F09C470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3F0-3A3D-42C3-9BF6-3EF3A12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09-0E0C-45F2-B335-04A0BC9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9A0-43E6-43A8-A7EA-F3C8B513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565A-7C85-4FDF-8655-7B307C72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366B-6447-4B75-8045-FAFBBD6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0D1C-F5E2-482C-B4A9-7EFF7AE5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F67-AAA9-4611-99E2-D0901B50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88DC-6E9D-43A1-B590-3C84B2AB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89E-B4BC-4052-849E-45430B3D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525E-9236-43D8-A8E9-205206D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920-2002-4A4A-932F-3A743D33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AC9B-53B2-4B2C-955B-9AABD3B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B4CD-BFC6-4695-A3AD-DA00E8F5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48A3-AA64-4C33-867E-2BCC04E6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7ADA-C3EA-4B17-824A-C350D35F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3511-2911-45A5-A5C0-6B0D01C9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950-0CA9-48C5-892A-69F3EAF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EE7-431C-4467-9E0C-8773584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DFE-F513-458D-8791-5F08DF3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681-0CF6-4832-BBF5-9F46EBD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D27-42A3-4B32-9DE0-5ADCFF4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995-1A4C-4E52-B979-C728A49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76-B1D5-47CF-BCC5-CE6A132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DCF-3BE2-4552-B601-B221FBC9E9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85D-4D50-4C61-8714-0E5939A298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rightgroup.com/download/cp/g7_geometry.pdf" TargetMode="External"/><Relationship Id="rId3" Type="http://schemas.openxmlformats.org/officeDocument/2006/relationships/hyperlink" Target="http://www.eduplace.com/state/nc/hmm/tools/6.html" TargetMode="External"/><Relationship Id="rId4" Type="http://schemas.openxmlformats.org/officeDocument/2006/relationships/hyperlink" Target="http://www.tki.org.nz/r/esol/esolonline/primary_mainstream/classroom/units/foil_fun/home_e.php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ometric Sha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8960" y="54860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Jane L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048120"/>
            <a:ext cx="1218960" cy="1295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505320"/>
            <a:ext cx="914400" cy="18288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9400200">
            <a:off x="5562360" y="3352320"/>
            <a:ext cx="1295280" cy="6098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590920"/>
            <a:ext cx="121932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267080"/>
            <a:ext cx="20574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570200">
            <a:off x="5333400" y="2437920"/>
            <a:ext cx="1066680" cy="685800"/>
          </a:xfrm>
          <a:prstGeom prst="parallelogram">
            <a:avLst>
              <a:gd name="adj" fmla="val 388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bsites for Additional Expl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quivalent Nets for Rectangular Prism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rightgroup.com/download/cp/g7_geometry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eduplace.com/state/nc/hmm/tools/6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OL On-Line Foil Fu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tki.org.nz/r/esol/esolonline/primary_mainstream/classroom/units/foil_fun/home_e.ph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ike or Differe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cones and cylinders are alike and differ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what ways are right prisms and regular pyramids alike? differ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1849320"/>
            <a:ext cx="1752480" cy="157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0244600">
            <a:off x="7009920" y="3886200"/>
            <a:ext cx="1765440" cy="196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0120" y="1828800"/>
            <a:ext cx="1143000" cy="1371600"/>
          </a:xfrm>
          <a:prstGeom prst="can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quarePyramid"/>
          <p:cNvPicPr/>
          <p:nvPr/>
        </p:nvPicPr>
        <p:blipFill>
          <a:blip r:embed="rId4"/>
          <a:stretch/>
        </p:blipFill>
        <p:spPr>
          <a:xfrm>
            <a:off x="4724280" y="4038480"/>
            <a:ext cx="1981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662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two-dimensional figure that, when folded, forms a three-dimensional fig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3733920"/>
            <a:ext cx="990720" cy="990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62520" y="3048120"/>
            <a:ext cx="1828800" cy="2438280"/>
            <a:chOff x="3962520" y="3048120"/>
            <a:chExt cx="1828800" cy="2438280"/>
          </a:xfrm>
        </p:grpSpPr>
        <p:sp>
          <p:nvSpPr>
            <p:cNvPr id="103" name=""/>
            <p:cNvSpPr/>
            <p:nvPr/>
          </p:nvSpPr>
          <p:spPr>
            <a:xfrm>
              <a:off x="4572000" y="30481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267080"/>
              <a:ext cx="609480" cy="6098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3657600"/>
              <a:ext cx="60984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48769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65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ctangular Pr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05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net for the yellow rectangular prism is illustrated be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you find other nets of the prism below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4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宋体"/>
              </a:rPr>
              <a:t>Attributes of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2133720"/>
            <a:ext cx="7497000" cy="2406600"/>
            <a:chOff x="1143000" y="2133720"/>
            <a:chExt cx="7497000" cy="2406600"/>
          </a:xfrm>
        </p:grpSpPr>
        <p:sp>
          <p:nvSpPr>
            <p:cNvPr id="115" name=""/>
            <p:cNvSpPr/>
            <p:nvPr/>
          </p:nvSpPr>
          <p:spPr>
            <a:xfrm>
              <a:off x="3591360" y="2940120"/>
              <a:ext cx="1558080" cy="160020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001120" y="3473280"/>
              <a:ext cx="1186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1400" y="327672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81640" y="2330280"/>
              <a:ext cx="815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20520" y="213372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dge(where two fac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71880" y="3320640"/>
              <a:ext cx="51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3000" y="3397320"/>
              <a:ext cx="224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where three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re edg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968480"/>
            <a:ext cx="7853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 total of 11 distinct (different) nets for a cu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CubeNets"/>
          <p:cNvPicPr/>
          <p:nvPr/>
        </p:nvPicPr>
        <p:blipFill>
          <a:blip r:embed="rId2"/>
          <a:stretch/>
        </p:blipFill>
        <p:spPr>
          <a:xfrm>
            <a:off x="1143000" y="2895480"/>
            <a:ext cx="7010280" cy="3210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77120" y="457200"/>
            <a:ext cx="914400" cy="990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gular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r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trahedron - All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the third net for a regular pyramid (tetrahedr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2209680" cy="198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are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tahedron - Base is a square and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SquarePyramid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19320" y="32767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x possible nets for a square pyrami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4419720" cy="3272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56:57Z</dcterms:created>
  <dc:creator>Department of IIT</dc:creator>
  <dc:description/>
  <dc:language>en-US</dc:language>
  <cp:lastModifiedBy>S6944451B</cp:lastModifiedBy>
  <dcterms:modified xsi:type="dcterms:W3CDTF">2008-07-01T07:22:46Z</dcterms:modified>
  <cp:revision>32</cp:revision>
  <dc:subject/>
  <dc:title>Implementing the 6th Grade GPS via Geometric Shapes</dc:title>
</cp:coreProperties>
</file>