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75F9-601B-45A4-88EF-8311DD978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0619-9EA9-4AB5-BD18-7EC6B1E6B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A34B-18E9-4FE8-AF18-CC2BC70E1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F299-9F7F-43D1-9572-2401CFE5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C939-D1EE-4A92-BDA2-B4992C1B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F9BD6-02A7-47FE-86AB-6D884A4F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0985-81D6-4513-AA06-33C7AD90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66A6-4D8E-4EBC-B107-3147A84D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A551-D927-4F01-847B-F70966778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9129C-4BB6-4723-85C6-D8381374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110A-507E-4B30-9B45-D716799D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DD6A-ECDE-4084-A03E-C1873334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F0C0-0CEC-4637-83D7-9D26E61B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6E92-59D8-42FC-A29F-5D2740DE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A4BC8-EFD4-4910-9588-E3B80F96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AB24-C9EF-44B6-8114-784039121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662C-F572-405B-92F2-D8DB40443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684882-6557-4C26-9698-6988D32D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34D62-CEB7-455B-88F2-E97B45F1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80EF7-4910-49B3-8CEB-28E4A4AE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12BC69-0E4E-4668-BC19-F55752D0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A46A7-3741-48A7-B7DF-E7FEEC6C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DB1E-1E34-478E-BC8E-1B01F26C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EC866A-67D1-4539-A073-D967EB9B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BB342-7770-409A-9FBF-AF984786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A14C1A-DE4A-4C0B-AF77-E38DF7BD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C7622F-C6E1-4F45-9761-BDB13DC7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F0DCDD-3D44-4EBE-A4AC-F317934A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A612E-2EAA-4D87-ACD6-912D92712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83F8F9-6645-43CC-8C3D-95ACFC6E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09733-6B34-43E0-8AE3-AF72F99BA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4ACBD-AE8A-44EA-BB23-4200FA19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A464F-5B19-4A7B-8689-4421D3D9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4375-5350-4363-9ED3-337E8ECC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3C506-BB3D-4EFF-A508-50B1410D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114C9-EAD6-4215-8A9D-EF050A3B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065DB-0AC6-4E5E-A698-00CFF2DF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E351C-781B-42E8-8568-81519A22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7CD7B-6833-4F5E-8091-10584C21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8CD1F-EEA0-4D9F-9658-AC75F391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449E5-2636-4666-82F1-8D664570D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0444E-8AC5-4DB2-9398-F01342659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37492-C98D-45E1-87B0-0829EFF3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2AFA68-863F-4C8A-B147-7117D5D6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910A-C61B-4C6E-99E8-5D73C365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094781-2632-466E-A81D-ADEF1C25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BD173A-3016-44BA-84F1-9EF669D5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DF10DD-D9E1-4DAA-978C-D2EBEA90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E385CC-3696-45A3-83CF-FF6DD66E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BDFF9F-66D2-4B0E-939A-A474F1363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DA7D69-BFAC-4E77-A9BE-8F39C87D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691B2E-96DE-4F76-9671-6460A879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AC5173-1CF6-4698-9A63-276E6A0F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D8295D-3CF1-408E-836E-FF762748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491F2-ADB2-4A14-8FB5-B8E3FE30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0F3A-BC53-488E-9E67-AB790551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DDF7C3-CA8F-4CC4-AC94-E86ADC908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D2F407-C9D9-4FF6-852C-56E3CF085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5D3476-C299-4777-9708-9539C263B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28A34C-FACB-4DB4-B6C2-4118E851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DDEAC6-43A4-4FDE-A834-A8F29847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23AAA3-CD91-4735-ABAD-AA47AA18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F26C16-332E-402A-9142-EF6E86C4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BA5735-2D5B-4B10-9A78-DD133D608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C69099-A3A9-4C07-803F-AA1F7CC3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A3973A-1B96-4020-A506-E455E51C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7CD6-1AE1-4F20-8329-464BECE2A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1AC905-EB8E-4E4D-A6D3-F3EDB1A6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D3946CF-A9F0-4F97-8D5C-353DAB61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CC8C7C-C5F8-413D-998D-328E39CEB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06CF10-D648-46D9-80D3-F3992A671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C11650-663C-4386-8268-2309384D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8BED65-ACFB-4ADC-86BD-505B52F2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9A14A3-0EC8-46BF-A6D1-9E2C900E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4A7722-D4E3-468E-B11C-0B034B8A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496419-CCBA-4296-BBAA-A36E7506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5A7D79-AFC5-4034-959C-8581EF4A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260F-D518-4CEB-A8F2-04CA67F1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B08868-71F4-452B-9B5C-25404512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31A5AE-D634-4D92-9AA9-C20D568F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5A6323-0547-4B88-94A2-1FE25351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95AD7D-B2C1-4065-BAE6-69D9B5869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44C253-9083-4759-A7C1-FDEC8FDE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C124-EC1B-4207-9F91-A789906B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EFA7-75B1-4731-B676-290A3EBC5D8A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B409-8090-49CA-8506-3772ECA7D1A0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C821B-F0C2-4EB2-B01E-314EB25F8CB5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1712-577E-472C-8A0E-569261E06123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CA4A0-B169-4103-B5B2-3FCBE258F5C1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30E3-442E-4471-8A84-0D34E97BA0FB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B91F-079C-423E-A53F-F0191A7C5B6F}" type="slidenum">
              <a:rPr b="1" lang="en-SG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1857240"/>
            <a:ext cx="61722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Century Schoolbook"/>
              </a:rPr>
              <a:t>VOLUME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2285640" y="2928960"/>
            <a:ext cx="61722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A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B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C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For glasses A, B, C and D, we say tha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Glass D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greatest volume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  </a:t>
            </a:r>
            <a:r>
              <a:rPr b="1" lang="en-US" sz="1800" spc="-1" strike="noStrike">
                <a:solidFill>
                  <a:srgbClr val="7030a0"/>
                </a:solidFill>
                <a:latin typeface="Century Schoolbook"/>
              </a:rPr>
              <a:t>OR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Glass D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most amount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Glass A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smallest volume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of water.  </a:t>
            </a:r>
            <a:r>
              <a:rPr b="1" lang="en-US" sz="1800" spc="-1" strike="noStrike">
                <a:solidFill>
                  <a:srgbClr val="7030a0"/>
                </a:solidFill>
                <a:latin typeface="Century Schoolbook"/>
              </a:rPr>
              <a:t>OR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Glass A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least amount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2" descr="C:\Users\NTUuser\Desktop\2008_08_17\volume 5.jpg"/>
          <p:cNvPicPr/>
          <p:nvPr/>
        </p:nvPicPr>
        <p:blipFill>
          <a:blip r:embed="rId1"/>
          <a:stretch/>
        </p:blipFill>
        <p:spPr>
          <a:xfrm>
            <a:off x="2786040" y="1643040"/>
            <a:ext cx="27860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285640" y="4000320"/>
            <a:ext cx="61722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Now, answer these questi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Jug _______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most amount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Jug _______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least amount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Jug A contains ____ more glasses of water than Jug B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Jug B contains ____ fewer glasses of water than Jug C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7" name="Picture 2" descr="C:\Users\NTUuser\Desktop\2008_08_17\volume 6.jpg"/>
          <p:cNvPicPr/>
          <p:nvPr/>
        </p:nvPicPr>
        <p:blipFill>
          <a:blip r:embed="rId1"/>
          <a:stretch/>
        </p:blipFill>
        <p:spPr>
          <a:xfrm>
            <a:off x="2571840" y="1285920"/>
            <a:ext cx="328608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2285640" y="4000320"/>
            <a:ext cx="61722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Now, answer these questi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_______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greatest volume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_______ ha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the smallest volume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flask contains ____ more glasses of water than the ju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mug contains ____ fewer glasses of water than the ju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flask contains ____ more glasses of water than the mug and jug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2" descr="C:\Users\NTUuser\Desktop\2008_08_17\volume 4.jpg"/>
          <p:cNvPicPr/>
          <p:nvPr/>
        </p:nvPicPr>
        <p:blipFill>
          <a:blip r:embed="rId1"/>
          <a:stretch/>
        </p:blipFill>
        <p:spPr>
          <a:xfrm>
            <a:off x="2286000" y="1143000"/>
            <a:ext cx="40752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5640" y="1857240"/>
            <a:ext cx="617220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Pictures are from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My Pals are Here! Maths 2B Textbook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My Pals are Here! Maths 2B Workbook Part 2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A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B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amount of water is called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volume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of the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We say that Containers A, B and C have the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same volume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of water if they contain the same amount of water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2928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4071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2" descr="C:\Users\NTUuser\Desktop\2008_08_17\volume 2.jpg"/>
          <p:cNvPicPr/>
          <p:nvPr/>
        </p:nvPicPr>
        <p:blipFill>
          <a:blip r:embed="rId3"/>
          <a:stretch/>
        </p:blipFill>
        <p:spPr>
          <a:xfrm>
            <a:off x="5214960" y="2071800"/>
            <a:ext cx="70632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A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B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ontainer A contains less water than Container B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Container B contains more water than Container 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2928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4071960" y="1357200"/>
            <a:ext cx="70632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A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B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We say tha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A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less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B.   </a:t>
            </a:r>
            <a:r>
              <a:rPr b="1" lang="en-US" sz="1800" spc="-1" strike="noStrike">
                <a:solidFill>
                  <a:srgbClr val="7030a0"/>
                </a:solidFill>
                <a:latin typeface="Century Schoolbook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A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smaller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B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2928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4071960" y="1357200"/>
            <a:ext cx="70632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A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B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We say tha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B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more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A.   </a:t>
            </a:r>
            <a:r>
              <a:rPr b="1" lang="en-US" sz="1800" spc="-1" strike="noStrike">
                <a:solidFill>
                  <a:srgbClr val="7030a0"/>
                </a:solidFill>
                <a:latin typeface="Century Schoolbook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B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greater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8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2928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4071960" y="1357200"/>
            <a:ext cx="706320" cy="19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C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D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Now, answer these questi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more than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the volume of water in Container ______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less than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the volume of water in Container ______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2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2928960" y="2071800"/>
            <a:ext cx="706320" cy="12430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4000680" y="2071800"/>
            <a:ext cx="121428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285640" y="3285720"/>
            <a:ext cx="6172200" cy="29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E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</a:t>
            </a:r>
            <a:r>
              <a:rPr b="1" lang="en-US" sz="1800" spc="-1" strike="noStrike" u="sng">
                <a:solidFill>
                  <a:srgbClr val="575f6d"/>
                </a:solidFill>
                <a:uFillTx/>
                <a:latin typeface="Century Schoolbook"/>
              </a:rPr>
              <a:t>F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	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Now, answer these questions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greater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_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 is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Century Schoolbook"/>
              </a:rPr>
              <a:t>smaller than </a:t>
            </a: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the volume of water in Container ______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2" descr="C:\Users\NTUuser\Desktop\2008_08_17\volume 2.jpg"/>
          <p:cNvPicPr/>
          <p:nvPr/>
        </p:nvPicPr>
        <p:blipFill>
          <a:blip r:embed="rId1"/>
          <a:stretch/>
        </p:blipFill>
        <p:spPr>
          <a:xfrm>
            <a:off x="4286160" y="2000160"/>
            <a:ext cx="706680" cy="12430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2" descr="C:\Users\NTUuser\Desktop\2008_08_17\volume 2.jpg"/>
          <p:cNvPicPr/>
          <p:nvPr/>
        </p:nvPicPr>
        <p:blipFill>
          <a:blip r:embed="rId2"/>
          <a:stretch/>
        </p:blipFill>
        <p:spPr>
          <a:xfrm>
            <a:off x="2714760" y="1500120"/>
            <a:ext cx="1214280" cy="18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3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5640" y="356760"/>
            <a:ext cx="6172200" cy="7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SG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2285640" y="4571640"/>
            <a:ext cx="6172200" cy="16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For Kettles A and B, we say that: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Kettle A contains 2 more glasses of water than Kettle B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fe8637"/>
              </a:buClr>
              <a:buSzPct val="70000"/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Kettle B contains 2 fewer glasses of water than Kettle A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2" descr="C:\Users\NTUuser\Desktop\2008_08_17\volume 3.jpg"/>
          <p:cNvPicPr/>
          <p:nvPr/>
        </p:nvPicPr>
        <p:blipFill>
          <a:blip r:embed="rId1"/>
          <a:stretch/>
        </p:blipFill>
        <p:spPr>
          <a:xfrm>
            <a:off x="2286000" y="1285920"/>
            <a:ext cx="44132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2285640" y="2500200"/>
            <a:ext cx="617220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So far, we have been comparing the volumes of 2 contain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75f6d"/>
                </a:solidFill>
                <a:latin typeface="Century Schoolbook"/>
              </a:rPr>
              <a:t>Now, let’s look at how we compare the volumes of 3 or more container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7T05:00:59Z</dcterms:created>
  <dc:creator>NTUuser</dc:creator>
  <dc:description/>
  <dc:language>en-US</dc:language>
  <cp:lastModifiedBy>NTUuser</cp:lastModifiedBy>
  <dcterms:modified xsi:type="dcterms:W3CDTF">2009-01-03T12:53:48Z</dcterms:modified>
  <cp:revision>16</cp:revision>
  <dc:subject/>
  <dc:title>Volume</dc:title>
</cp:coreProperties>
</file>